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50A-6899-46A0-B44E-38686B29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FD7-0D46-464C-8285-A6596D7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E7C03-6DF3-4B14-8250-D1626AE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A60A-A8B5-4364-9E13-9DAE032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90F14-410C-478D-A488-F1D7EC6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9B4B7-D6B5-4547-8634-6998DB8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18BF-9ADE-4077-8775-5709FE8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B9941-9DA7-487D-B7FB-6DDEDFA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527C3-3AB6-475F-BF22-9E23869D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C123D-CE63-4435-AA77-8A7503C8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5F661-0A81-42EA-9065-FBC7DE09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796B-7543-4327-B953-02F9721B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C24-2204-4A8A-B97A-0ADB9844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59F66-44F5-4F9B-A634-93AE0E0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31F11-6AF5-41F3-B5F7-075D6FA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C5FA-EE6C-476C-9CA5-4735D84C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3682-6C2C-4FA8-9564-F307336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2DB8A-CEAF-4ECF-87B2-F90143CE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6E3F2-39FE-4E59-8EE0-FA5DAB09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35B28-F4B1-4D23-A813-08880E2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8B745-974C-48EC-AF9B-5CB2639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85660-0CED-4EA1-A589-061A97E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38B1F-E8F0-46F2-BB78-38328A40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0D6-8B00-4C52-9801-C86B0B7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F390-47F8-43F9-AB2F-E8DE7BC8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B96C1-8E2B-4F57-B70C-D297BAF9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925FF-04D5-464C-B9B1-7B5A278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827C9-A3C1-4707-AB23-939E3A4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5F465-A32C-4572-A2AC-6419EEA5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1923B-0119-414E-8FFB-8181428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C7C0A-3D36-4D9D-9456-E388F52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8EB2-4866-4057-8B2F-7B6C068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E567-6627-4B17-9F5E-4A4ED96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C1C4-33EF-42C5-8C42-DA40BD1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4E6-237C-45F8-A315-7735820A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8D77-9EBC-4E58-81D7-489B889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ADADB-61AF-42E0-9D6E-2AF00FFA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F19F-1E2D-4942-A8BE-AF653F5E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2F41F-7B41-4378-B55A-06B03F62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0AE4-15B9-471C-BEB2-39184B8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B6834-73DD-4FEB-954A-45229A9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D4781-ECBC-4713-B523-2FE4A78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8B69A-BFBA-487A-844F-DAAB0595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4A3C7-AA0E-4784-AF7B-443E6238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6321A-646F-4AF5-8CD5-D6D50532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86D-E737-4F1C-A704-FAA97EC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13427-9557-476D-9BC1-ED92825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404AD-118C-4A41-ABE9-5A2AF53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FB583-B72E-4FD2-B822-B2818BFB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81642-58F5-4D7B-A66B-F655CDF7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3B8B7-1952-4B58-BF86-F1029530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B90E0-4755-4393-A13B-178AB2C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9DBF0-012E-4582-AE94-5AF910E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8EE84-C6D7-4E68-A9FA-2851B444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27572-628E-4E30-8684-FD0779E5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63FF1-3E89-4443-94A8-E2F9A938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FDC7-5BF1-496F-8178-E49FE91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81A8E-92CC-41CF-8EE7-1CC3C8B2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DB2DB-FB7A-46D4-B0A7-14B785A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B575D-0DF0-48EC-9A8D-97DEFF1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BE5BB-9291-4292-8B22-81E1633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DC588-3560-4D53-A2C6-B4C056A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CAEBC-720F-4719-828E-657BB7B2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1BD54-6BC3-45D8-A22F-7163147A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798BB-D3DA-4B40-9E31-1651CACC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9C926-A43E-4EE9-8FBE-5830E0E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A1AEF-71F8-42F1-82A1-9E5181D1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6F0-6AE4-4D65-BE1E-87B4A9A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CD792-C351-4C81-A793-1E92C55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81FB0-D49D-4FEF-BE56-1B2FC8F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512CC-9CE9-4202-A0ED-2CA88C90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BC4BC-77C4-43C1-8235-3243C0D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33018-1DCB-49EA-9319-5D9CBD6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D3928-8105-4BA3-A6DD-0FF2A5A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348EC-C8DA-42C1-8640-84BCA5C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3AAE4-AE7B-4C5B-A4B0-613B4E4B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E3BED-80E5-4806-B8C8-D54C7CCA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E6BE6-04A8-4078-BF41-181E1359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818B-9B9A-41EF-9FC1-080FCBAD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CB315-9FA3-45D3-BA0B-C626921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E44C1-204A-4AD6-9D9A-861CC9B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57AFA-EC04-462E-B57E-B066D97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6C840-BF75-4AAC-B407-4AEC0C4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E00CF-9B21-4DAC-81AE-8819079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2816D-6BCD-43DA-9305-2E858B3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D0539-9C6E-44A2-8FBF-B1CCC75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EE429-6729-48A6-A1F2-781CA68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D5E0D-E658-49E0-8F2A-DBDFA57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F01A0-B95E-4923-BD01-EABC2C2B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1328-FAF2-4531-B33C-CBDD9C17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40A0E-2BE2-4914-A261-3F9C2634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392B9-0034-4EC9-A962-916818D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AAFFB-5BB4-43CE-B008-D243560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BF2CA-D1F6-4200-B8CF-DF387F20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03EB3-E704-4D12-9F38-4511FDCB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4ABA1-E242-42F7-9D4B-370D8C74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B6145-405D-42D2-8EAE-53A47FE9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93ABC-EB97-431E-BA93-E14E0DC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296BB-B21C-4037-A82D-C7C75D4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9AA9F-45DF-4563-A6B3-5E02878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08D7-D0CC-4103-8C84-151C1CB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C8FED-FDD4-4437-9DDA-1E3407A1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34D91-066B-4ECB-97E2-E5A1E1F4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87256-2505-4BD5-83E4-4E6E6701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09311-09AA-42BF-B92C-1C3691F8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2D8E0-BD39-4748-85C7-33D81C3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861EB-4EDE-43B8-ABC4-34CA2DB0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DC71A-1AEF-43A3-A5F2-1B52166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2B7B4-0667-46A9-9C74-79FDCF3A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46403-EAA1-4981-800B-3535167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6A48AD-37D6-4191-8B8E-7791284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E73-3693-4E00-B0B1-892F028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6F7-C2A3-4524-BD8C-B56F41B1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F980A-08CF-455F-92BE-5A979D0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C2BFB-8AAA-48DF-93C3-3399AE5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A8411-11CB-408A-8A81-0D1ABD8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57B3C-3B48-406C-926B-015E3D48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F0268-CAD9-45EA-82BD-38E77203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E6C2E-7543-46CD-B8CC-A5D42990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4F15C-B12C-462E-A7D7-54F9927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4257A-7097-4DC5-987C-9D53BADE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2CDB5-D755-444C-9E3B-6507FA87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6AF63-6D27-4AD4-B026-B7ABB18C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656A-BE16-467E-9BF3-BA0E89B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F5685-FA5F-47EB-929B-2C1CC5E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5746B-471A-4762-81F3-C552598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F0157-B518-4B37-A6E6-A084A91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52691-755F-4999-AC04-03E841D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D763C-8CDF-4CEC-9733-A6EDFCA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224AD-C172-43F7-9E0E-592EDAAE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65DE2-EDC2-4624-AB8D-2083D4DE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C475B-5263-46D2-BCC5-97740495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1063E-AABD-40EE-B651-BBE8A6B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03767-CE4F-4B70-BA51-95B1A48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6DA1-F6CE-454A-8F24-C61BE51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AD77F-0830-4823-8B83-1B8B681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5A240-FCB6-490B-A0E6-AEBB791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977E9-0E77-4322-AC26-3898D6D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9532C-4EA8-45CC-B7DF-B3E00E8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8DA95-A9B7-4F00-8DA7-C2F889F8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F6024-830B-4774-8A4A-12CABCE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BDCA5-C352-4DD7-9163-0A001DE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DA203-5F7E-4E7C-B273-E0CF904F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F227C-B8F6-43E7-882B-DDB0AEFA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8E0E6-910D-488D-9995-75753C84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7BEB-7FCF-44BA-B044-4C2C1AFC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0B5992-5EFD-4244-B21A-46508A5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10224-CD4E-447F-93E4-F75C5E2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C07B4-8EAF-444C-845F-CB3C9A3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11743-596A-4858-8E28-E7C2DF9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C7692-CA58-4B61-9DCB-D768797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318891-4C28-49D6-A98E-03032F3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A471A-62B6-48E5-B113-C65A4B6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1342B-F92D-47C3-9BF8-7FB03CA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C2271-6BB5-491E-8413-32053DF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85652-330F-4E72-956C-FB678DAF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972-7224-4685-938C-11145B2A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F947C-01B3-4E3E-ADBE-B52E17D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83088-319A-4613-B80E-CD824C1D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B6949D-8B16-45B1-94BB-4B1FA95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2AE25-41C2-4919-BC56-0629C2F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06F74-6C01-474A-AEB9-A4E085C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0421DC-93C8-452E-A43E-50355C5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1EBBD-23DD-4B75-9872-BB8C9F0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EAD16-9EA1-4A44-A195-73497A4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9ACCF-93BC-45DB-8204-1CC25B20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DCCAC-976E-47B8-AF74-F1BE562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1EA8-FC20-4CFC-8175-30BACEF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739D2-25E8-48D9-99A2-ACF0CE9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9B0AC-FB8F-4762-ABF3-0CFAF07F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11A8C-863D-4FE9-8CB8-F4B68AA6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86E8-EA51-4731-B43C-F567D978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432B-0F0D-476D-B167-7DA54F99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097F-AB3B-4E3F-8782-F691DB00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C124-0B7E-4728-922F-FFF9616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15C-225E-4F8E-81F3-198EA5B9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F664-9A9D-417D-84ED-8F5AEB7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1BC9-3BB5-4036-AF76-E053E5A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2DF3-8FE3-4ECB-B2EC-BA75FF2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CCD9-5ACC-40E0-AF28-CDBABBF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46BD-4709-4AFE-A5C2-69949C72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A034-4A9B-4C2C-9B81-0A234CB6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B68B-5264-487B-9203-1EE6D73D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0291-6299-4862-8D96-50463F38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E765-D59A-4573-87E9-B190305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3827-75D9-4215-AAA6-379A1AA2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CB4-8948-4471-871F-62E0BF0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2786-5841-4F01-B1B3-CB990504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7A7A-77AB-4ACD-AF4B-B22966E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8B17-72DB-4C94-B32B-280A45AC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F3E0-07DE-447C-9B15-1974B97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5F38-E482-402D-8470-7DBACA3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68F3-D459-4853-B6CF-27D4552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49AC-5418-4AB9-AA8C-D877156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3841-C6B4-4CEB-B9DC-5DEDCEB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4291-EE8B-4438-92A7-B3106D38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1455-2343-41C8-AB11-A9C1A71E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65-19C4-4247-B343-A737C64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7949F-EEB8-4665-B7A3-FBEDB5C5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305D8-C3D0-4CC2-BE87-DF1F8F9A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04CD-638C-4DB8-8F71-AC434F7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8B666-4C3B-43BF-B3B5-53B917F2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4F72-7ECF-41B1-8C91-73B086E3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4CF9-C7A2-4318-9412-28EE7D3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8F41-BE9D-4D3E-994C-89D05F2C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0637-E3E8-4DAA-8B8A-111F95A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5A606-6E8F-491E-A592-922696C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8B70-B388-4E77-A19B-D97F8509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381-AD7D-4603-95C4-1422443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51B1-5F14-4A86-9742-D7FF86AD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957BB-EE8D-4437-912A-73170CF2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B844-09FD-451E-93F3-96683BE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1D12-F552-40E7-9F3A-564C310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0D1F-ABDF-4BB4-AEE4-AAB0127C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2EC6-7F74-439C-9785-8C47CF6D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021F-48D9-4573-8B45-71F9F83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E6E15-A50A-4CD4-86B5-36B63EB3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DB94E-B8F7-4AD9-92A6-ABBB27D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AD36-FAA0-45AD-8F92-320A949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A1F-A0D0-494D-A393-D7CBA16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AC9E-C5AD-4BCC-9827-5FD20A1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7855-4452-46A3-A175-1EE79FED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BC9A-4A91-4B31-BE94-D69EBA3B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A3B7-AD6C-43AE-A13D-F1A030CB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C285-2690-4E00-B9A2-F8208D6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BE72-C2C0-43DF-958F-DE9B7C47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B96A-FA50-479E-8210-4288149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6E7A-353C-41CE-A21D-C835C127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50F9-FDDF-4DE5-A3E6-3FAA20B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188A5-85FA-4A11-AAE3-29BBF17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ECD-B449-4632-8E49-FC91202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8053-E5CC-48C5-923D-090B1F2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23CE-1A9E-4938-B0AE-0DE0750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9257F-A5D7-40B0-A068-C1828F6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61AF-4C28-4C8D-A05A-77E7D04A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6F2F-2EC1-4F19-8EC2-8387ADC1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5246C-A24D-480D-B2DF-6566FD67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B6BF-5186-46F4-8B4C-CE3F6C8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A7525-4709-4EC5-B6EC-560E579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DAC6-1F2C-46FC-B71C-074557B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989A-EF25-406B-97F3-FE23A37E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F1B-F6DA-41CB-9DE1-B4646C7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C7090-050F-46A6-8436-DA02799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3C673-4CC4-42B4-8EF1-93B1D13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334A-285D-44C8-A3F9-7812FBF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B63A5-F876-41C3-977A-35E88A8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3D25-344E-4467-964E-8288E30C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E606-37B3-4E4C-AD67-55182077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68180-A715-45A1-830F-DEBA5D2E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88E05-0868-4605-B5DD-5EFB14B4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68220-1D74-4661-9521-1F266E5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1A6AB-4061-49D8-BA34-FD219F9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9D0-719E-40FA-9AA1-41ED547C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A8E-9171-4F88-8CB5-68BF5CCDF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37B-2F33-493B-965D-D991F7BCD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D4E3-BAB9-448B-9FDD-364BDFE2A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6A5-9796-48E6-879D-76D1820A3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23E-BAA6-43BF-A907-394AC681E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3D8-3A7A-443F-A543-546BD67E90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D98-220B-4860-82CD-9277E0FAD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2EF-1387-493B-9181-FA5AF7367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FAC-7DDD-4EB0-8488-51F7C6877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930-018F-41F4-BADF-4C566300A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A72-0DAF-4C08-976B-B108EF95A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E03-1129-436D-A683-B665DB841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877-C2DC-41B0-9B79-DD55942E3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AD0-9A8E-4FD5-BCC0-B5743F7C6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769-6691-4AC5-AB3A-9B2A3AF4B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6929-C4A0-41B9-A694-763CC0E06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865-A0B6-430B-8D82-35AC01588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EE13-0136-4725-902B-FF1E00BDA0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84F3-41A8-442E-9BCB-8D61C23E2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1FF3-9E91-4697-AB52-8E3F1D787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BF75-CB65-4FC9-8290-ECA80A8FD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C48-F7E0-4834-9DA8-BE39FBAF6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103-6EFB-4DF9-8B27-8810B866B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5C0-113E-4234-A148-29BB62180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E97B-5725-42BF-A19C-19E2087D1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C54-AEB7-42F4-9678-9725B1F1D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930B-C603-449B-895E-F49AC6E0E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F675-9036-4C72-B190-FAD39CCF55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6028-A848-4458-AC2F-32C0EAABB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7CB-EE62-430B-B2E5-83D435D2A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1001-4F4E-44F0-B085-6F90D0AAC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B1B-3E5F-4683-A9FD-BDE27A43F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2CE-5C76-4198-B015-542FCE805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D65A-349D-4B7F-9B1B-CC61686F0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902-EB4D-48A1-8098-81260F8874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050-5828-4BEB-81E7-1855E2B31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58BE-575A-4DFC-BF80-6ADE45A6D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4A89-02C3-4B30-9F60-D3492CAE8D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CC6-F6AB-4D56-A545-AD2CDBDA3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990720" y="3086280"/>
            <a:ext cx="7162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42800" y="1400040"/>
            <a:ext cx="8258400" cy="40579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31431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28760" y="1119240"/>
            <a:ext cx="8286480" cy="46195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857160" y="11430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39290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471600" y="1728720"/>
            <a:ext cx="8200800" cy="340056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00080" y="17859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321480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80960" y="771480"/>
            <a:ext cx="8182080" cy="531504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6357960" y="128592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2000160" y="2214720"/>
            <a:ext cx="17146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2786040" y="321480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2565360" y="416412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428840" y="5643720"/>
            <a:ext cx="1571400" cy="379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76280" y="709560"/>
            <a:ext cx="8191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3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34408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3" descr=""/>
          <p:cNvPicPr/>
          <p:nvPr/>
        </p:nvPicPr>
        <p:blipFill>
          <a:blip r:embed="rId1"/>
          <a:stretch/>
        </p:blipFill>
        <p:spPr>
          <a:xfrm>
            <a:off x="419040" y="709560"/>
            <a:ext cx="8305920" cy="543888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5929200" y="178596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4357800" y="3357720"/>
            <a:ext cx="2428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4000680" y="3929040"/>
            <a:ext cx="171432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5429160" y="4429080"/>
            <a:ext cx="2071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3917880" y="4894200"/>
            <a:ext cx="228600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4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